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667-6A8E-4869-B7A5-DAB2C6D6F199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8299-61FC-4863-97E8-59B99C55168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CD8F-6603-4E1B-AF0E-F8A400F9AD7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ith anything, the key to being able to find and use even your own data is good organiza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ime, space, or type of measurement fundamental to your project?  Some of all of the ab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69B9-C974-46AB-87F6-19FAE83B879F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data gathering and quality control procedures needed to be developed and lots of people trained in them prior to each measurement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ory structures for organizing the thousands of files by instrument and measurement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e naming conventions and identifiers for sit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6B81-E394-4916-A561-14FB8AE4164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e naming conventions and identifiers for sit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7964-E7D1-4074-9760-43E2EB04804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4731-9F95-4E87-B1EC-CB4D0AB88D7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293400" y="299880"/>
            <a:ext cx="73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Elements of a Data Management Plan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Organization and Standards; Version 0.1.0, Reviewed ?/?/?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ataconservancy.org/sites/default/files/Questionnaire_V.1.pdf" TargetMode="External"/><Relationship Id="rId2" Type="http://schemas.openxmlformats.org/officeDocument/2006/relationships/hyperlink" Target="https://dmp.cdlib.org/" TargetMode="External"/><Relationship Id="rId3" Type="http://schemas.openxmlformats.org/officeDocument/2006/relationships/hyperlink" Target="http://www.nsf.gov/bfa/dias/policy/dmp.jsp" TargetMode="External"/><Relationship Id="rId4" Type="http://schemas.openxmlformats.org/officeDocument/2006/relationships/hyperlink" Target="http://science1.nasa.gov/earth-science/earth-science-data/data-information-policy/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Elements of a Data Management Pla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Organization and standard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0.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or a high level overview of the content of a Data Management Plan see Data Management: Elements of a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or details of other sections of a Data Management Plan see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Identify materials to be creat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oles and responsibilit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scribing and documenting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ata access, sharing and re-use polic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ackups, archives, and preservation strateg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hings to think abou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at are the natural ways the material you will be creating could be organized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es your community have standards that you should be following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otential O&amp;S topics to cover: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gathering procedures and quality contro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rectory structur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iers and naming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ersion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le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s with everything in data management, scale matters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 1 – A large-scale project: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Cold Lands Processes Experiment (CLPX)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680" y="2324160"/>
            <a:ext cx="37972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80+ investigator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Wide variety of earth bound, airborne and satellite sensor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Manual snow pit measurement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veral model data sets too!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Data acquired at several different scales (MSA, ISA, LSOS, LRSA)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0" name="Picture 3" descr=""/>
          <p:cNvPicPr/>
          <p:nvPr/>
        </p:nvPicPr>
        <p:blipFill>
          <a:blip r:embed="rId1"/>
          <a:srcRect l="0" t="0" r="4549" b="2537"/>
          <a:stretch/>
        </p:blipFill>
        <p:spPr>
          <a:xfrm>
            <a:off x="4749840" y="2209680"/>
            <a:ext cx="7643880" cy="689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ost critical CLPX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Helvetica Neue"/>
              </a:rPr>
              <a:t>Data gathering procedures and quality contro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rectory structur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dentifiers and naming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ersion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Helvetica Neue"/>
              </a:rPr>
              <a:t>File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Helvetica Neue"/>
              </a:rPr>
              <a:t>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 2 – Small scale science: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A veterinarian studying effects of oil on bird mortality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71320" y="3047760"/>
            <a:ext cx="524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ngle investigato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ult is a spreadsheet of subjects, blood sample analyses and mortality outcom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5" name="Picture 1" descr=""/>
          <p:cNvPicPr/>
          <p:nvPr/>
        </p:nvPicPr>
        <p:blipFill>
          <a:blip r:embed="rId1"/>
          <a:stretch/>
        </p:blipFill>
        <p:spPr>
          <a:xfrm>
            <a:off x="5969160" y="3048120"/>
            <a:ext cx="634176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ost critical bird health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gathering procedures and quality contro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rectory structur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Helvetica Neue"/>
              </a:rPr>
              <a:t>Identifiers and naming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ersion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Helvetica Neue"/>
              </a:rPr>
              <a:t>File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ore potential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at community standards aren’t you going to use and why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at standards gaps are there and how are you going to help fill them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etailed questionnaire put together by the Data Conservancy about everything that might be important for your data management plan,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dataconservancy.org/sites/default/files/Questionnaire_V.1.p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alifornia Digital Library’s on-line DMPTool,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s://dmp.cdlib.org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SF’s data management plan requirements are available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nsf.gov/bfa/dias/policy/dmp.js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SA Data Policy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4"/>
              </a:rPr>
              <a:t>http://science1.nasa.gov/earth-science/earth-science-data/data-information-policy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uth Duerr</cp:lastModifiedBy>
  <dcterms:modified xsi:type="dcterms:W3CDTF">2012-03-06T17:36:57Z</dcterms:modified>
  <cp:revision>47</cp:revision>
  <dc:subject/>
  <dc:title>ESIP Federation 101</dc:title>
</cp:coreProperties>
</file>